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EC3FF-3953-4C26-8177-1D89A89263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0CCAE-3F68-4A89-AE42-201C6AA20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CFBF3-4363-4064-9C04-938101A15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A460B-83BE-4269-A5C7-CFADAD018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256-1E64-432C-A3C5-A1CC6F50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7FE-BE28-4AD1-B4BA-178D92D0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9029F-8D2A-4487-B969-FA9FDDF2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81984-B60E-447F-817D-56E937AB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CF3F0-5FC3-4EF0-A201-1022D51A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90694-A74E-4B4A-A18F-80753B5D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652AA-7192-4EB3-930C-DBAA47B3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933E3-12B6-4F70-B36C-F63513F5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28C2C-9627-4E74-B30F-AE4ABF6A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436F0-C8FD-4DE9-A611-8B50FEFF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7C018-F23E-47BA-92F6-F06B2EE6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0878A-721F-4214-B829-F7D8EDE8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835-C2D6-4B6F-A5F0-331BBFF4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12B74-E0AF-4E2D-B9CE-7134C23D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86CD7-CDB3-4F01-BDA1-2CBF457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4C704-84B7-4865-AB67-50DEE88E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FBDFA-4CB4-4B93-BE25-3214D4AF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2F5BA-9782-4FBF-BA46-BEC4CE99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CDB14-D5A2-4E1B-96A8-BFF49347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F8E38-831C-4068-8516-4FF70756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86B0F-3397-4DF7-93A3-548A7898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AA20B-238F-4854-9BFF-1DDB8AC6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C1D86-4446-4C10-9A3A-30C28324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385-469D-4CFE-AF44-D2764018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E9CA6-9486-4FF2-829F-39FAD253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D62B72-FD56-46BC-93E5-112A4E32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1B53B1-CAD5-472B-86BE-70C09567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62D9E3-2169-48A9-838A-962670B3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A533C7-B195-4786-8139-197C76E1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DF3BE0-4F86-4DF9-A857-2F0F488B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00503D-CB91-4E36-9705-76131D0D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D87419-DE1F-48E6-B2D0-126C5F66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8EAA9B-D102-4C65-BEE4-35A89134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17CF92-E244-46D9-8949-03C3A0BC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223EEF-2463-484D-A48D-1313C67D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B6B0F4-039A-47AE-98FE-DAA06363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53FA36-D79B-456B-8D18-818D7885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6F9C5-0D79-4C79-AF57-FBE0C67E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2A3CC-AC13-4BA5-A481-45B2173C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04E6C-4C3F-4193-AE12-757B3BCA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A2D29-76C3-408E-9B74-AB5C0D08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6FE28-68B3-4845-81AF-F0CCFC9C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F9DB6-46A3-4C46-AD05-4B648C8F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EB6B3-5D7C-4CDB-82C1-CDB5DECE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73168-5482-49B6-80A0-F06D6C65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22DBA-E256-44D6-B047-DDE8505D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FCD14-8FA3-4004-B2C3-CF318541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CB2B4-A87B-421B-8B35-4F866A6F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9B32C-2E2C-43BE-BA69-BF4A1E5A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900929-CF10-4216-BC32-99069897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49EA04-162D-4595-851B-8D7BB08C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6F1A7F-7B65-4108-8705-94E53238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D82732-6838-41EB-9B65-8327048F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5ADCFE-0E4D-4AB3-94FC-E930A7A9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1079A3-879C-422D-9050-7FA377E6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65B510-2905-4D0B-9129-CB520C31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C63B4E-B6B9-48A9-9E20-3D6665E8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37CBBA-4E67-464F-B43E-D625740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4EE4B2-E8A8-4770-95D0-088A1F3E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A122A7-9E5C-4E28-9CC7-310AF68E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7ECF3E-4878-48F0-A0EB-E1C2936D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66193-F4BA-4CBA-812E-4788CD31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9262F-83B3-46BE-8E0D-B14B562A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1CE1C-2924-4BA7-9D81-ADECFCE3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59CD2-7A98-4CF5-AB49-3F7FF7EE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63244-E7E1-41C2-8FD4-CABD07C5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D316B-8FD1-4544-9FF3-88354E68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AAACC-C7B9-4309-B6A5-005B3402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B50EF-0FED-4923-BEB1-2A891C38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D7C31-A52E-431F-AD2D-4C604C94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EDA95-5A41-46E7-BF0D-34BF0A3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5A154-3E0E-43EC-9C1B-DACDAACE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32641-6EB7-4FB1-8645-D8BD4FE4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8F9D8-9C38-4E1C-93C2-1B5F691F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83207-BD90-4089-A352-923F3EA1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A0172-5F01-43D9-879A-B500F796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4FFCF-2E8F-4706-BA9C-92DA7572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17522-4451-480E-875D-A642B6A1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E36041-7F2B-4ED4-8A9D-F564B1C5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BD2513-DD9C-466E-BED5-81C89BA0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90395-51D2-49FC-AED0-B9ACD64F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5F81D-69E1-4875-A8B8-D271404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2AB8D-0CF7-4F89-AA72-CCF93058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60DC4-C337-4C17-A95E-36B6B111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87BF0-0D2A-4EA9-8988-28F13B83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FDEDD-B582-4D93-8EA3-02D8F3D6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EA2E40-BEFB-432C-9D73-0FABCA4D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720F9-0D13-48A7-A469-16961EC8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4C52C5-BB8A-46A6-812A-634AA4F6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8E0126-5D21-4700-B4BC-F1A5CCDF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CCFE4-7C19-49FC-A293-ADD5700C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43F243-744F-4C7B-8157-7F80098D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91E-B578-4546-98C3-A140AE78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253D10-CFD5-4849-9E87-364CB32D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8CE0F-0588-47AA-9F4F-A9ACA908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3B373-0746-41A1-B3D3-5D568657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A27DA-DE62-4A34-B6D4-5101051E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9EFA8-30B9-4221-9B73-BD0B59B9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3AE7E-2384-452F-97AF-F99C7395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CDDE49-6027-4D85-8D6B-F16F1076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CFAD1E-5808-4A6D-9222-63C7303A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4636B-7B8F-4517-ABE3-F7D6E330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6A755-648D-4469-9D5F-5A379FA8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7064A-E27F-48F2-8A6E-7C5E71E4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0A8A4-95AB-44B0-BF4D-35F83340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282ABF-84F0-4F40-B309-CCCBC751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4788A-E480-4ACE-8C55-03A3883F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B99CB-B4C6-488A-A636-6B59BF4B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FC575-9720-4E93-9AF8-BA6EDD15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1D013-BEA5-4A96-8809-70090440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F45DC-F94D-4815-9FF2-76163683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72004-E310-4774-9CEE-F34044BD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66F876-6246-4274-B96D-939FC607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01AD4-D0B7-49C2-A83B-29DB1F72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26154-5FB0-435D-8C74-24C86776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FD1C4-EE44-4554-84D5-EAA3F0B4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565CCC-E17B-4336-8C77-A93B3554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11D03E-4AFB-4CB7-B168-680AC4BC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E6A728-1774-4EEF-BD2B-AE53146F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4FC112-D0F3-4B98-99E5-C27D401D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FD894-6E86-409C-8481-44DE4C09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8A770-9951-4774-B611-27886634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36F331-C494-44B7-89FE-9AC0CD99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78136-DC6C-4679-BA35-DE2A88BA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30A34-7FEE-4D88-BE33-F929EE03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A9C33-48A2-451B-A08C-0EC6F207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2F28D-AD4C-4CAE-9DAB-416C5E11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C0D308-2330-4A83-A039-44ABFB54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4D624D-F11A-4E6A-AC92-FB57B902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BD8A2-366F-4434-9653-A5A9EA8A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48A62-A9C7-41BA-8016-45BDB0BF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CFDDAA-EB5E-4FD1-904F-1054504B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A0157-EFD8-40F5-B70C-3BE6DA2F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898D99-B948-488A-BB79-925D4FC9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D075E-2588-46D2-8793-FAC4DA56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1E4011-1415-4C0A-8C35-1BBBAFBE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40E293-07B4-4A62-A71F-9FFDA5FC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76ABAE-AD20-4C1A-9B92-A542E5F8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C9029-B869-4FF5-8AC7-2D12531C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73DADF-BFF6-4DB7-A906-E3857535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4CC726-07C8-4741-A37B-038524CA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CABAE-68B2-406E-B07F-E5902D36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A8700-B246-4846-958A-BED9F453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79767-B31D-434B-B400-CF075D5D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E0E8B6-A204-4A81-A6BF-EF42BEF7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E87BF-C8BE-4D15-AB36-5B510C00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58EB14-0455-457A-9899-8F40B496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E32FD-E34F-445B-823D-385E9E83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EAAF4-1DAE-4CBF-947D-D1112E63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18A7F-BD69-4F67-8493-6C9645AE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B58E0-96C5-4586-B39C-1D7070F0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664-1825-42FD-ACD9-36BE4C55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B6669-8E1A-40D3-9410-E36F1F4C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946E0-18CF-4B98-A6D3-30EA74BD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BE42E-CC2B-4CEF-AF5F-F9335F18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F2136-2611-4332-9128-8E7D5EA8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172D9-55A7-4D31-8ED6-4C0E5C32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A47C5-F076-4232-BCBA-4E71BEFF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DAB1E-2B92-413B-82A9-FFAE3D8F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AE4D1-EF8D-4612-8420-A959EA2A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2479E-D1EE-47F5-B0FE-7E59E874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D1F0F-823C-405A-81E1-1329E3A6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4D7-2A77-4D1A-B233-BE0D4227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3891A-D04B-4E7A-AA6E-C49CD4F6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2DE42-3E6D-46A4-938E-1DCB3D5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D5A7B-5642-4C68-97C9-A476A632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0CD93-D06E-446F-A36E-F079AA5B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E2151D-52DC-4560-9ADE-6108FD4A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415DE-4118-4347-8534-4EA9E5C3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C6BDF1-0B07-4EA5-A221-F8B45DF6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64A12-2A8A-4B96-B592-CC0E6741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3166F-3EB4-4BD0-8D98-17EB1FA3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99C-4443-4F0B-9A03-33FB8A9E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D0A-2393-4F49-B39B-DE22126C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1D52FD-2C43-4E2E-9B84-3386257A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ECD802-C06E-4D64-BD8E-9832D09B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2413CC-003F-4969-8470-A69BC579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852EF5-63D9-4589-8C16-598401D5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E461AB-6368-4514-9D56-5D05EBB3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6DEAE4-5709-426D-96BE-A8B604E7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7F7597-CF8A-4D70-8BF7-043D025A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9B6671-57DB-46FD-9A94-EF2B9427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175810-01BD-48EF-BF3F-9FB5F171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D21-4FF5-4775-B8A2-7C6C6CD8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F9FECC-28DF-4130-AC19-284D997A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08D6AB-D2DB-42E0-B4E2-3E26D568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425921-5E44-43FF-BF94-6B871B9C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D5103D-2AAF-4822-8340-285BA365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4E28AB-A33E-4AFE-84F4-2BD27241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3D7EB3-1437-43A6-845B-86EA7F5D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AFD5B3-8B25-4BC2-8C6A-295AFF82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CBF80B-FAA8-4DB3-95D2-69495A49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DCA138-482C-4F17-9B37-D84344A0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AA892F-8AEC-4898-A69A-99D1FBE5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F8C-0C82-41C9-88E6-B5ED806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A41345-2CBB-435D-AC1B-1FBF49B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0A028F-4C96-4FB2-9DDC-96590CF1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003FE1-61B9-4F25-8C27-A5964C6B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2BAFB0-925F-421F-993C-D0A8A615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60367D-FE5F-4A80-B8F9-74AB7498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92F4F1-F104-4CBA-8F3D-8FA5B553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3BFFDE-A32F-49FE-BF80-A2948ABB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88D780-F839-47D8-B4E5-EE297AE3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1FDEA8-C9DC-4C3E-8FF6-D8D87D74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26E7D6-BAA5-4C3D-9F7B-0C669984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07E-1734-4912-8508-3507825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6E4ACA-2271-48BB-8020-9C0977C9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B195F8-9623-4D86-8AB2-D05F9E53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05DC3A-CA48-4B2F-8A35-0CAC2C5A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DD4BD9-4527-4A58-8CFA-6680D9A1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9907A6-91E7-4B76-A65D-1CE778DD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E50AF7-8356-497C-AC65-D99C6D5E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D2F456-EEE7-428C-9C6F-45CF47EF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EEA0E-CC1B-41DA-8369-03019533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EA60E-955B-4158-893A-27F01831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7DFF4-7CCC-472B-A0A2-4B144890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4A2F6-F660-4F9D-993D-8D4E8D12649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D69CE-DC03-4E10-BEDE-0518A3EA024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2D77F-6C88-4D05-BCE4-C2E90A92871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AA62A-2669-48B3-A930-7FB5453BACE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92E96-17DD-4AC5-B795-480FDCE2EA2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3E075-1530-4027-AA7C-493608A5627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4CFBE-D3EA-451D-A24C-AC4DE9BAC47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E6334-BC25-44B2-A7A8-B1ABD3A32E1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ADCB1-3AC4-4185-960F-2F09C79A7AE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AB047-41B0-4A96-8CE9-476B3A924C3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8C254-5426-4E45-9875-60D2C752406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352CC-50E8-4086-BB9F-7008A8205C4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3175C-F807-4D9A-B63A-61AF4251B8E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28374-B5E5-4DFA-B55E-A6FEBD46427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0B8A1-B073-456A-A11E-10E1557136F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61C17-C99D-4FA6-B3A4-99ABF83C8AB1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2777D-1F06-4AE1-AEF0-1FA4B9F940D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1971D-B7AF-4032-8C2E-F8CE8BBFF5E2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48E8A-CA62-40AD-AC88-FA3267E20A8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C3FE7-02DD-4839-A645-E25E34E37AD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E16B3-CA8C-41B0-9E0E-ABB3F241940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36B14-37E8-48B0-BAA4-8CE1FFBE85C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65C32-3750-4038-8BBB-E6052E1C613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4FA17-A0A3-4BDA-AFB3-616D63F4BC4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2422B-2D6F-41F9-86BE-3122514DC20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92D02-EB91-4C98-AECE-BF64B1D1E30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05DDA-BFCF-4401-AC14-4B4B8601EAF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1EBE6-1B9B-497E-90C6-354566F28F7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A9548-BB33-4CB0-ABA4-38BCD6BA323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A4A50-2310-4532-96DD-531E922D2CB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DCD65-7715-490A-BA64-B70AD5D7DEB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2A511-B265-4987-8736-47B548438A7A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421C4-B978-4071-B3D9-00E0877108C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AD835-5894-4FFD-9602-D08FF591ADC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F2F64-8478-497C-960A-788A1BD1C36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D9ABD-69EC-4877-A37C-F0AEFD77C68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E3892-CF31-4A0A-8843-978F6CEB068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13B5B-67D6-4FCB-BF95-EFF65EB1E501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590E6-BBDB-42BC-8AA7-E85840943D2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657160" y="4624560"/>
            <a:ext cx="618156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66"/>
                </a:solidFill>
                <a:latin typeface="Rockwell"/>
              </a:rPr>
              <a:t>Logical Fallacies</a:t>
            </a:r>
            <a:endParaRPr b="0" lang="en-US" sz="40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3205080" y="5562360"/>
            <a:ext cx="563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Rockwell"/>
              </a:rPr>
              <a:t>What’s wrong with the way we think?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9" name="TextBox 3"/>
          <p:cNvSpPr/>
          <p:nvPr/>
        </p:nvSpPr>
        <p:spPr>
          <a:xfrm>
            <a:off x="607320" y="635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4" descr=""/>
          <p:cNvPicPr/>
          <p:nvPr/>
        </p:nvPicPr>
        <p:blipFill>
          <a:blip r:embed="rId1"/>
          <a:stretch/>
        </p:blipFill>
        <p:spPr>
          <a:xfrm>
            <a:off x="595440" y="345960"/>
            <a:ext cx="8127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ask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 pairs, please discuss and provide examples to explain the following fallacies: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lippery Slope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Red Herring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ost hoc ergo propter hoc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enetic Fallacy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gging the claim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gging the question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Either/or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d populu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traw Ma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Moral Equivalenc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07720" indent="-207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66"/>
                </a:solidFill>
                <a:latin typeface="Rockwell"/>
              </a:rPr>
              <a:t>Logical Fallacy</a:t>
            </a:r>
            <a:endParaRPr b="0" lang="en-US" sz="4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According to Webster’s Dictionary, a fallacy is </a:t>
            </a:r>
            <a:r>
              <a:rPr b="0" lang="en-US" sz="3200" spc="-1" strike="noStrike" u="sng">
                <a:solidFill>
                  <a:srgbClr val="663366"/>
                </a:solidFill>
                <a:uFillTx/>
                <a:latin typeface="Rockwell"/>
              </a:rPr>
              <a:t>an error in reasoning or a flawed argument</a:t>
            </a: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It’s an argument that </a:t>
            </a:r>
            <a:r>
              <a:rPr b="0" lang="en-US" sz="3200" spc="-1" strike="noStrike" u="sng">
                <a:solidFill>
                  <a:srgbClr val="663366"/>
                </a:solidFill>
                <a:uFillTx/>
                <a:latin typeface="Rockwell"/>
              </a:rPr>
              <a:t>does not conform to the rules of logic, but appears to be sound</a:t>
            </a: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o err is human . . .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98600" y="1980720"/>
            <a:ext cx="755640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Fallacies are all around you…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50d7"/>
                </a:solidFill>
                <a:latin typeface="Rockwell"/>
              </a:rPr>
              <a:t>Advertisements in magazine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T.V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50d7"/>
                </a:solidFill>
                <a:latin typeface="Rockwell"/>
              </a:rPr>
              <a:t>Billboard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Radio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50d7"/>
                </a:solidFill>
                <a:latin typeface="Rockwell"/>
              </a:rPr>
              <a:t>Can you think of a place where there are NO advertisements?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Where do we commonly see logical fallacies?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ow are we affected? 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Rockwell"/>
              </a:rPr>
              <a:t>What might be the impact of being told that we are not smart, pretty, handsome, rich, clean, or good enough?</a:t>
            </a:r>
            <a:endParaRPr b="0" lang="en-US" sz="26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Rockwell"/>
              </a:rPr>
              <a:t>Or that someone else isn’t one of those things?</a:t>
            </a:r>
            <a:endParaRPr b="0" lang="en-US" sz="26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What does the casual acceptance of surrounding ourselves with fallacies say about us?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ypes of Logical Fallacies:</a:t>
            </a:r>
            <a:br>
              <a:rPr sz="3600"/>
            </a:b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 </a:t>
            </a:r>
            <a:r>
              <a:rPr b="1" lang="en-US" sz="3600" spc="-1" strike="noStrike">
                <a:solidFill>
                  <a:srgbClr val="b050d7"/>
                </a:solidFill>
                <a:latin typeface="Rockwell"/>
              </a:rPr>
              <a:t>Ad hominem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Ad Hominem (meaning “against the person”) attacks the person and not the issu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First, determine whether the personal attack is relevant.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Rockwell"/>
              </a:rPr>
              <a:t>Example: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i="1" lang="en-US" sz="2200" spc="-1" strike="noStrike">
                <a:solidFill>
                  <a:srgbClr val="595959"/>
                </a:solidFill>
                <a:latin typeface="Rockwell"/>
              </a:rPr>
              <a:t>Bill Roberts has been campaigning for the library tax.  But what I want to know is what Bill Roberts thinks he knows about a library.  He only has an eighth grade education, and I would bet that my eighth grade son has a higher IQ than Bill does.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ypes of Logical Fallacies:</a:t>
            </a:r>
            <a:br>
              <a:rPr sz="3600"/>
            </a:b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 </a:t>
            </a:r>
            <a:r>
              <a:rPr b="1" lang="en-US" sz="3600" spc="-1" strike="noStrike">
                <a:solidFill>
                  <a:srgbClr val="b050d7"/>
                </a:solidFill>
                <a:latin typeface="Rockwell"/>
              </a:rPr>
              <a:t>Appeals to Emo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ppeal to emotions manipulates people’s emotions in order to get their attention away from an important issu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e appeal arouses your feelings or anger, fear, grief, love, outrage, pity, pride, sympathy, relief, etc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f you allow murderers to be set free after serving only 15 years, you are giving them permission to kill agai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ypes of Logical Fallacies:</a:t>
            </a:r>
            <a:br>
              <a:rPr sz="3600"/>
            </a:br>
            <a:r>
              <a:rPr b="1" lang="en-US" sz="3600" spc="-1" strike="noStrike">
                <a:solidFill>
                  <a:srgbClr val="b050d7"/>
                </a:solidFill>
                <a:latin typeface="Rockwell"/>
              </a:rPr>
              <a:t>Hasty Generaliza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asty generalization (or jumping to conclusions) draws a conclusion about a population based on a small sample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66"/>
                </a:solidFill>
                <a:latin typeface="Rockwell"/>
              </a:rPr>
              <a:t>Example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:  </a:t>
            </a:r>
            <a:r>
              <a:rPr b="0" lang="en-US" sz="1800" spc="-1" strike="noStrike">
                <a:solidFill>
                  <a:srgbClr val="330f42"/>
                </a:solidFill>
                <a:latin typeface="Rockwell"/>
              </a:rPr>
              <a:t>I’ve met two people in Nicaragua so far, and they were both nice to me.  So, all people I will meet in Nicaragua will be nice to me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-OR-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66"/>
                </a:solidFill>
                <a:latin typeface="Rockwell"/>
              </a:rPr>
              <a:t>Example</a:t>
            </a:r>
            <a:r>
              <a:rPr b="0" lang="en-US" sz="1800" spc="-1" strike="noStrike">
                <a:solidFill>
                  <a:srgbClr val="b870b8"/>
                </a:solidFill>
                <a:latin typeface="Rockwell"/>
              </a:rPr>
              <a:t>:  </a:t>
            </a:r>
            <a:r>
              <a:rPr b="0" lang="en-US" sz="1800" spc="-1" strike="noStrike">
                <a:solidFill>
                  <a:srgbClr val="330f42"/>
                </a:solidFill>
                <a:latin typeface="Rockwell"/>
              </a:rPr>
              <a:t>I do not believe that Dr. McKenzie is a trust-worthy physician.  Two of my friends were his patients, and he incorrectly diagnosed both of their cases.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ypes of Logical Fallacies:</a:t>
            </a:r>
            <a:br>
              <a:rPr sz="3600"/>
            </a:br>
            <a:r>
              <a:rPr b="1" lang="en-US" sz="3600" spc="-1" strike="noStrike">
                <a:solidFill>
                  <a:srgbClr val="b050d7"/>
                </a:solidFill>
                <a:latin typeface="Rockwell"/>
              </a:rPr>
              <a:t>Stereotyp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A stereotype is a special and dangerous form of the hasty generalization.  There are national, regional, religious, racial and many other kinds of stereotypes. 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Rockwell"/>
              </a:rPr>
              <a:t>Example</a:t>
            </a: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:</a:t>
            </a:r>
            <a:r>
              <a:rPr b="1" lang="en-US" sz="28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b050d7"/>
                </a:solidFill>
                <a:latin typeface="Rockwell"/>
              </a:rPr>
              <a:t>Don’t expect John McKenzie to spend much on your date tonight.  His parents are Scotch, after all.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ypes of Logical Fallacies:</a:t>
            </a:r>
            <a:br>
              <a:rPr sz="3600"/>
            </a:br>
            <a:r>
              <a:rPr b="1" lang="en-US" sz="3600" spc="-1" strike="noStrike">
                <a:solidFill>
                  <a:srgbClr val="b050d7"/>
                </a:solidFill>
                <a:latin typeface="Rockwell"/>
              </a:rPr>
              <a:t>Circular Reasoning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ircular reasoning is an attempt to support a statement by simply repeating the statement in different or stronger terms. 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Rockwell"/>
              </a:rPr>
              <a:t>A confused student argues: “You can’t give me a C.  I’m an A student!”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Rockwell"/>
              </a:rPr>
              <a:t>A satisfied citizen says: “Richardson is the most successful mayor the town has ever had because he's the best mayor of our history.”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2:55:40Z</dcterms:created>
  <dc:creator>Taylor Long</dc:creator>
  <dc:description/>
  <dc:language>en-US</dc:language>
  <cp:lastModifiedBy>Ariftesl</cp:lastModifiedBy>
  <dcterms:modified xsi:type="dcterms:W3CDTF">2011-06-21T09:14:31Z</dcterms:modified>
  <cp:revision>15</cp:revision>
  <dc:subject/>
  <dc:title>Logical Fallacies</dc:title>
</cp:coreProperties>
</file>